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8244-9000-4D29-BFE7-B27EDDEC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3300-5975-4703-8E2A-A22F826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A7F0-8F91-4535-BAF8-1C0EA2D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4882-9B27-4BBD-BCA1-8D1E19AA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DF3-FF1E-4B3D-BF3D-C51DFEE2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90DA-4A20-444D-B295-BB25F99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34A4-6A5A-4718-A099-F6CE85B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DFA7-9685-4EF9-B97E-DFF5884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DB33-6C3F-4322-A6E5-D58A0FF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E768-C2AD-4136-A287-A4B4B99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E53F-EF3B-434D-82CF-754BA4C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608F-AD0A-466F-96C7-FF8D5D5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590F-77F3-4511-8233-4C73E87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A84-4363-4998-9637-460837F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82D1-DDA0-43C8-BAA9-4EE298F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E24-0CD7-467D-931C-F2803AAD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F2B1-30B7-45BE-B442-72BDC939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934E-5D8B-4988-AF6C-1B8B540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AE01-3230-4252-A461-F12C6B4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16CD-5B0B-430C-AA9A-7377C47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C6C1-39E3-4F83-A827-04AFFB0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3B81-0466-4E43-8EA0-FE514B5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DB08-BB41-49C9-9646-82C150E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AC5C-7448-4D58-A6AF-F9B5277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9A1E-73FC-4DD9-86DB-DC82D85169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AD24-83B8-4057-B0C6-63F4B4975F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8353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IOGRAF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“La identidad y la alteridad en las formas poéticas arábigoandalusas: jaryas y , muwasha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humada Peña, Haydée. “De amor y de dolor. Mujeres, sentimientos en las jarchas y abencerrajes”. En Cyber Humanitatis,  N°11, (Invierno 199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Jessica Castro y Raquel Villalobos. “Poesía femenina hispanoárabe del siglo XII: imagen de un equívoco”. En  Cyber Humanitatis Nº 39 (Invierno 2006)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 “Encuentros y desencuentros en los romances fronterizos y morisc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drade Daneri, Claudia. </a:t>
            </a: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El Abencerraje y los Romances, dos lecturas de la España del siglo XVI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. En Cyber Humanitatis, N°40, (Primavera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artínez Iniesta, Bautista. “Crónica poética de la Reconquista de Granada y  antología del Romancero Fronterizo”. En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Google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01:44Z</dcterms:created>
  <dc:creator> </dc:creator>
  <dc:description/>
  <dc:language>en-US</dc:language>
  <cp:lastModifiedBy> </cp:lastModifiedBy>
  <dcterms:modified xsi:type="dcterms:W3CDTF">2007-10-15T20:36:08Z</dcterms:modified>
  <cp:revision>4</cp:revision>
  <dc:subject/>
  <dc:title>Diapositiva 1</dc:title>
</cp:coreProperties>
</file>